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82F-11DA-4586-8CD5-ED116572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06FE-FF32-49CC-8318-6620F150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F5F-7FCD-4A26-B2F4-50117303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B75-E7D8-4824-89DF-8D163510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664-8343-4E6A-99F1-7FAF84E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D29-64AC-47B3-B3C6-538B8AAB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CFE-8E12-4131-B4BD-10342B46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0C7-1270-4430-916A-CCE630F6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CE0-D2BC-4764-83BD-EF7F58CB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A4B-B092-46B0-9D98-02F31E1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9E0-9D77-4E87-A9C2-273A20A6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790-1CC3-40C5-AFDE-154F5BCC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621F-BDC4-4637-89EE-733B33B1E84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Emotive and evocative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mo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voc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164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pressing, appealing to or causing intense fe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ringing strong images, memories or feelings to m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ory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ual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(i.e. not literal) language used to capture a particular mood or create a vivid visual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language evoking/appealing to the five senses of sight, hearing, touch, taste, sm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evoking/appealing to the senses, especially in an intimate or sex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" y="162864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1600200"/>
            <a:ext cx="58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 using ‘like’, ‘as’, or ‘as if’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louds as fluffy as meri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meringue clouds floa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attributing human qualities to an inanimate objec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clouds shed bitter 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8:24Z</dcterms:modified>
  <cp:revision>77</cp:revision>
  <dc:subject/>
  <dc:title>La Belle Dame Sans Merci</dc:title>
</cp:coreProperties>
</file>